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751-D7FF-4352-ABD9-58055E79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3F5-D5C0-4034-AA6E-8DECE6DA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67B-D50D-4BC7-BD0F-D60FF211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95A-BC34-4259-97A0-6D4BF2AE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02FF-9F30-44C7-9C06-B3C4D91F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257C-02C7-491F-9DAB-8EC5569C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DE87-5632-4653-8750-D4C7294D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1EBF-50AB-48A9-8929-88597A16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BFEC-9D99-4ED8-832D-7DA966DE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683E-0242-486E-A6E3-DB905908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8B72-F62C-4C58-998B-4D555B3B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6AC-D847-4D08-A1A6-8324C5CC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ED7E-7D0B-4EB3-BE74-ED7F80A0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81FC-ACBB-4DFB-8029-39DDCBE3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59AF-8F0D-444C-834B-63AC77B5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DCAE-EAEA-4B39-AD8D-FA1653DE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5887-6A1C-4F87-92E0-DCB7A7F3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8E5-ADD2-4E94-9519-8FFB070E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1D6-F7B1-4BDF-A3CC-2C73FB0A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15D-5FC1-4D64-A7C3-B21BC6F7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474-085E-4778-8560-481B3898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7B4-C457-48DB-941C-95980DBD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B41-F35C-4640-8B72-004D6F13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C84-59C3-4C54-8133-B71F4168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F778-E182-4053-8F87-85EDB34079F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8C0D-1F10-48D0-9D1A-71CA23A58B0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Rectángulo"/>
          <p:cNvSpPr/>
          <p:nvPr/>
        </p:nvSpPr>
        <p:spPr>
          <a:xfrm>
            <a:off x="0" y="0"/>
            <a:ext cx="9144000" cy="868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000000"/>
                </a:solidFill>
                <a:uFillTx/>
                <a:latin typeface="Comic Sans MS"/>
              </a:rPr>
              <a:t>ANEX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Comic Sans MS"/>
              </a:rPr>
              <a:t>VITAMINAS</a:t>
            </a: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(Coenzi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</a:rPr>
              <a:t>que particip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</a:rPr>
              <a:t>en 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</a:rPr>
              <a:t>METABOLISMO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</a:rPr>
              <a:t>HIDRATOS de CARB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2"/>
          <p:cNvSpPr/>
          <p:nvPr/>
        </p:nvSpPr>
        <p:spPr>
          <a:xfrm>
            <a:off x="714240" y="5357880"/>
            <a:ext cx="288000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AD, N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398520" y="5911920"/>
            <a:ext cx="84596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nterviene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285840" y="71280"/>
            <a:ext cx="8643960" cy="16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6600"/>
                </a:solidFill>
                <a:latin typeface="Calibri"/>
              </a:rPr>
              <a:t>NIACINA ó VIT B</a:t>
            </a:r>
            <a:r>
              <a:rPr b="1" lang="es-AR" sz="3600" spc="-1" strike="noStrike" baseline="-25000">
                <a:solidFill>
                  <a:srgbClr val="ff66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baseline="-25000">
                <a:solidFill>
                  <a:srgbClr val="ff6600"/>
                </a:solidFill>
                <a:latin typeface="Calibri"/>
              </a:rPr>
              <a:t>Sinónimo: Ac. Nicotínico</a:t>
            </a:r>
            <a:r>
              <a:rPr b="1" lang="es-AR" sz="36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5 CuadroTexto"/>
          <p:cNvSpPr/>
          <p:nvPr/>
        </p:nvSpPr>
        <p:spPr>
          <a:xfrm>
            <a:off x="4816800" y="2143080"/>
            <a:ext cx="369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atalizan reaccion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óxido-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Ej: en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Isocitr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Alfa-ceto-gluta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	</a:t>
            </a: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Mal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"/>
          <p:cNvPicPr/>
          <p:nvPr/>
        </p:nvPicPr>
        <p:blipFill>
          <a:blip r:embed="rId1"/>
          <a:stretch/>
        </p:blipFill>
        <p:spPr>
          <a:xfrm>
            <a:off x="500040" y="2128680"/>
            <a:ext cx="4003560" cy="1872000"/>
          </a:xfrm>
          <a:prstGeom prst="rect">
            <a:avLst/>
          </a:prstGeom>
          <a:ln w="0">
            <a:noFill/>
          </a:ln>
        </p:spPr>
      </p:pic>
      <p:sp>
        <p:nvSpPr>
          <p:cNvPr id="145" name="14 CuadroTexto"/>
          <p:cNvSpPr/>
          <p:nvPr/>
        </p:nvSpPr>
        <p:spPr>
          <a:xfrm>
            <a:off x="1113120" y="4929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Formas a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"/>
          <p:cNvPicPr/>
          <p:nvPr/>
        </p:nvPicPr>
        <p:blipFill>
          <a:blip r:embed="rId2"/>
          <a:stretch/>
        </p:blipFill>
        <p:spPr>
          <a:xfrm>
            <a:off x="142920" y="1757520"/>
            <a:ext cx="43578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2"/>
          <p:cNvSpPr/>
          <p:nvPr/>
        </p:nvSpPr>
        <p:spPr>
          <a:xfrm>
            <a:off x="468360" y="4219560"/>
            <a:ext cx="5076720" cy="18180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1f497d"/>
                </a:solidFill>
                <a:uFillTx/>
                <a:latin typeface="Calibri"/>
              </a:rPr>
              <a:t>Requerimientos diar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Hombres: 12,0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ujeres: 11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95280" y="1341360"/>
            <a:ext cx="43210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ereales integ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arne vac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Triptof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7" descr="pescado"/>
          <p:cNvPicPr/>
          <p:nvPr/>
        </p:nvPicPr>
        <p:blipFill>
          <a:blip r:embed="rId1"/>
          <a:stretch/>
        </p:blipFill>
        <p:spPr>
          <a:xfrm>
            <a:off x="4716360" y="1628640"/>
            <a:ext cx="1776600" cy="2233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9"/>
          <p:cNvSpPr/>
          <p:nvPr/>
        </p:nvSpPr>
        <p:spPr>
          <a:xfrm>
            <a:off x="1787400" y="6210360"/>
            <a:ext cx="511200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vitaminosis: pela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0"/>
          <p:cNvSpPr/>
          <p:nvPr/>
        </p:nvSpPr>
        <p:spPr>
          <a:xfrm>
            <a:off x="5715000" y="5143680"/>
            <a:ext cx="2519280" cy="1555560"/>
          </a:xfrm>
          <a:prstGeom prst="ellipse">
            <a:avLst/>
          </a:prstGeom>
          <a:solidFill>
            <a:srgbClr val="ea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er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iar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em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carne vaca"/>
          <p:cNvPicPr/>
          <p:nvPr/>
        </p:nvPicPr>
        <p:blipFill>
          <a:blip r:embed="rId2"/>
          <a:stretch/>
        </p:blipFill>
        <p:spPr>
          <a:xfrm>
            <a:off x="6300720" y="1268280"/>
            <a:ext cx="2592360" cy="17352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Calibri"/>
              </a:rPr>
              <a:t>NIACINA ó VIT B3 </a:t>
            </a:r>
            <a:r>
              <a:rPr b="1" lang="es-ES_tradnl" sz="28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OA"/>
          <p:cNvPicPr/>
          <p:nvPr/>
        </p:nvPicPr>
        <p:blipFill>
          <a:blip r:embed="rId1"/>
          <a:stretch/>
        </p:blipFill>
        <p:spPr>
          <a:xfrm>
            <a:off x="539640" y="1341360"/>
            <a:ext cx="7580520" cy="2659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50920" y="3284640"/>
            <a:ext cx="41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enzima A (CoA-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50920" y="4071960"/>
            <a:ext cx="8569080" cy="2288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FUNCIONES DE LA Coenzima 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tabolism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ansferencia de grupos acilo (acetilos):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íntesis de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Componente de Proteína transportadora de acilos (Ac. Graso sint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619280" y="1341360"/>
            <a:ext cx="2160720" cy="1224000"/>
          </a:xfrm>
          <a:prstGeom prst="rect">
            <a:avLst/>
          </a:prstGeom>
          <a:solidFill>
            <a:srgbClr val="4f81b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403280" y="2637000"/>
            <a:ext cx="2335320" cy="580680"/>
          </a:xfrm>
          <a:prstGeom prst="rect">
            <a:avLst/>
          </a:prstGeom>
          <a:solidFill>
            <a:srgbClr val="d7f959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Residuo de Ac. pantot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85840" y="0"/>
            <a:ext cx="864396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7030a0"/>
                </a:solidFill>
                <a:latin typeface="Calibri"/>
              </a:rPr>
              <a:t>ACIDO PANTOTENICO O VIT B5 – </a:t>
            </a:r>
            <a:r>
              <a:rPr b="1" lang="es-ES_tradnl" sz="2400" spc="-1" strike="noStrike">
                <a:solidFill>
                  <a:srgbClr val="7030a0"/>
                </a:solidFill>
                <a:latin typeface="Comic Sans MS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7"/>
          <p:cNvSpPr/>
          <p:nvPr/>
        </p:nvSpPr>
        <p:spPr>
          <a:xfrm>
            <a:off x="1116000" y="2060640"/>
            <a:ext cx="70563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Mayoría de los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&gt; Huevo, Hígado y Lev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611280" y="4149720"/>
            <a:ext cx="7705800" cy="1323000"/>
          </a:xfrm>
          <a:prstGeom prst="rect">
            <a:avLst/>
          </a:prstGeom>
          <a:gradFill rotWithShape="0">
            <a:gsLst>
              <a:gs pos="0">
                <a:srgbClr val="706b02"/>
              </a:gs>
              <a:gs pos="50000">
                <a:srgbClr val="f3e805"/>
              </a:gs>
              <a:gs pos="100000">
                <a:srgbClr val="706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querimiento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4-6 mgr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324000" y="5791320"/>
            <a:ext cx="8280360" cy="8251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Avitaminosis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: retardo en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142920"/>
            <a:ext cx="8643960" cy="157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7030a0"/>
                </a:solidFill>
                <a:latin typeface="Calibri"/>
              </a:rPr>
              <a:t>ACIDO PANTOTENICO O VIT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7030a0"/>
                </a:solidFill>
                <a:latin typeface="Comic Sans MS"/>
              </a:rPr>
              <a:t>Fuentes – Necesidades di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iotin"/>
          <p:cNvPicPr/>
          <p:nvPr/>
        </p:nvPicPr>
        <p:blipFill>
          <a:blip r:embed="rId1"/>
          <a:stretch/>
        </p:blipFill>
        <p:spPr>
          <a:xfrm>
            <a:off x="0" y="1413000"/>
            <a:ext cx="3600360" cy="2104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68360" y="3645000"/>
            <a:ext cx="7921440" cy="296964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50000">
                <a:srgbClr val="eafba3"/>
              </a:gs>
              <a:gs pos="100000">
                <a:srgbClr val="6c74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Calibri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Calibri"/>
              </a:rPr>
              <a:t>ACTÚA COMO </a:t>
            </a:r>
            <a:r>
              <a:rPr b="1" lang="es-ES" sz="3200" spc="-1" strike="noStrike" u="sng">
                <a:solidFill>
                  <a:srgbClr val="0000ff"/>
                </a:solidFill>
                <a:uFillTx/>
                <a:latin typeface="Calibri"/>
              </a:rPr>
              <a:t>COENZIMA </a:t>
            </a:r>
            <a:r>
              <a:rPr b="1" lang="es-ES" sz="3200" spc="-1" strike="noStrike">
                <a:solidFill>
                  <a:srgbClr val="0000ff"/>
                </a:solidFill>
                <a:latin typeface="Calibri"/>
              </a:rPr>
              <a:t>DE REACCIONES DE CARBOXILACIÓN Y TRANSFERENCIA DE GRUPOS AC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708360" y="2205000"/>
            <a:ext cx="2462400" cy="5814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-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14200" y="-142920"/>
            <a:ext cx="864396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116000" y="1422360"/>
            <a:ext cx="5435640" cy="42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Bacterias Intest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Leva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Nu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ueces"/>
          <p:cNvPicPr/>
          <p:nvPr/>
        </p:nvPicPr>
        <p:blipFill>
          <a:blip r:embed="rId1"/>
          <a:stretch/>
        </p:blipFill>
        <p:spPr>
          <a:xfrm>
            <a:off x="6651720" y="3500280"/>
            <a:ext cx="1881000" cy="2305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216000" y="5945040"/>
            <a:ext cx="8532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lara de huevo cruda inhibe su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images"/>
          <p:cNvPicPr/>
          <p:nvPr/>
        </p:nvPicPr>
        <p:blipFill>
          <a:blip r:embed="rId2"/>
          <a:stretch/>
        </p:blipFill>
        <p:spPr>
          <a:xfrm>
            <a:off x="6588000" y="1628640"/>
            <a:ext cx="1957680" cy="1957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3276720" y="4724280"/>
            <a:ext cx="3313080" cy="11692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REQUE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8"/>
          <p:cNvGrpSpPr/>
          <p:nvPr/>
        </p:nvGrpSpPr>
        <p:grpSpPr>
          <a:xfrm>
            <a:off x="1511280" y="2565360"/>
            <a:ext cx="1344600" cy="1871640"/>
            <a:chOff x="1511280" y="2565360"/>
            <a:chExt cx="1344600" cy="1871640"/>
          </a:xfrm>
        </p:grpSpPr>
        <p:sp>
          <p:nvSpPr>
            <p:cNvPr id="177" name="Freeform 9"/>
            <p:cNvSpPr/>
            <p:nvPr/>
          </p:nvSpPr>
          <p:spPr>
            <a:xfrm>
              <a:off x="1511280" y="2565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1774800" y="2573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1"/>
          <p:cNvSpPr/>
          <p:nvPr/>
        </p:nvSpPr>
        <p:spPr>
          <a:xfrm rot="19789800">
            <a:off x="1295640" y="4220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2268000" y="1989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11280" y="1557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RANSPORTE ACTIVO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4859280" y="2421000"/>
            <a:ext cx="3816360" cy="57960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  LISINA    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730872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292720" y="4076640"/>
            <a:ext cx="3311640" cy="52056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O    BIO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5508720" y="2997360"/>
            <a:ext cx="0" cy="100800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"/>
          <p:cNvSpPr/>
          <p:nvPr/>
        </p:nvSpPr>
        <p:spPr>
          <a:xfrm>
            <a:off x="7020000" y="3068640"/>
            <a:ext cx="1728720" cy="93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nzi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1"/>
          <p:cNvSpPr/>
          <p:nvPr/>
        </p:nvSpPr>
        <p:spPr>
          <a:xfrm>
            <a:off x="5003640" y="2060640"/>
            <a:ext cx="936720" cy="1224000"/>
          </a:xfrm>
          <a:prstGeom prst="ellipse">
            <a:avLst/>
          </a:prstGeom>
          <a:solidFill>
            <a:srgbClr val="4f81b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5292720" y="3645000"/>
            <a:ext cx="936720" cy="1224000"/>
          </a:xfrm>
          <a:prstGeom prst="ellipse">
            <a:avLst/>
          </a:prstGeom>
          <a:solidFill>
            <a:srgbClr val="4f81b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6300720" y="429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2340000" y="537372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Sangre: Forma libre o unida a 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579600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Metabolismo - 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8 CuadroTexto"/>
          <p:cNvSpPr/>
          <p:nvPr/>
        </p:nvSpPr>
        <p:spPr>
          <a:xfrm>
            <a:off x="1000080" y="6286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0 CuadroTexto"/>
          <p:cNvSpPr/>
          <p:nvPr/>
        </p:nvSpPr>
        <p:spPr>
          <a:xfrm>
            <a:off x="2220120" y="5884920"/>
            <a:ext cx="5062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Función</a:t>
            </a:r>
            <a:r>
              <a:rPr b="1" lang="es-ES_tradnl" sz="2400" spc="-1" strike="noStrike">
                <a:solidFill>
                  <a:srgbClr val="ff0066"/>
                </a:solidFill>
                <a:latin typeface="Calibri"/>
              </a:rPr>
              <a:t>: Coenzima en las re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Calibri"/>
              </a:rPr>
              <a:t>de carboxilación, portador de CO</a:t>
            </a:r>
            <a:r>
              <a:rPr b="1" lang="es-ES_tradnl" sz="2400" spc="-1" strike="noStrike" baseline="-25000">
                <a:solidFill>
                  <a:srgbClr val="ff0066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6384960" cy="5713560"/>
          </a:xfrm>
          <a:prstGeom prst="rect">
            <a:avLst/>
          </a:prstGeom>
          <a:ln w="0">
            <a:noFill/>
          </a:ln>
        </p:spPr>
      </p:pic>
      <p:sp>
        <p:nvSpPr>
          <p:cNvPr id="196" name="3 CuadroTexto"/>
          <p:cNvSpPr/>
          <p:nvPr/>
        </p:nvSpPr>
        <p:spPr>
          <a:xfrm>
            <a:off x="6019560" y="1657440"/>
            <a:ext cx="291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Vit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BI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Mecanism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Coenzima de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carboxil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3 Rectángulo redondeado"/>
          <p:cNvSpPr/>
          <p:nvPr/>
        </p:nvSpPr>
        <p:spPr>
          <a:xfrm>
            <a:off x="2928960" y="1357200"/>
            <a:ext cx="2857320" cy="19288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4 Rectángulo redondeado"/>
          <p:cNvSpPr/>
          <p:nvPr/>
        </p:nvSpPr>
        <p:spPr>
          <a:xfrm>
            <a:off x="3071880" y="2071800"/>
            <a:ext cx="228600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5 Rectángulo redondeado"/>
          <p:cNvSpPr/>
          <p:nvPr/>
        </p:nvSpPr>
        <p:spPr>
          <a:xfrm>
            <a:off x="714240" y="5929200"/>
            <a:ext cx="58579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6 CuadroTexto"/>
          <p:cNvSpPr/>
          <p:nvPr/>
        </p:nvSpPr>
        <p:spPr>
          <a:xfrm>
            <a:off x="1088280" y="6000840"/>
            <a:ext cx="51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acción anaplerótica  o de relleno del 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11280" y="1341360"/>
            <a:ext cx="770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4 CuadroTexto"/>
          <p:cNvSpPr/>
          <p:nvPr/>
        </p:nvSpPr>
        <p:spPr>
          <a:xfrm>
            <a:off x="950400" y="857160"/>
            <a:ext cx="202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omplejo n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uadroTexto"/>
          <p:cNvSpPr/>
          <p:nvPr/>
        </p:nvSpPr>
        <p:spPr>
          <a:xfrm>
            <a:off x="5561640" y="857160"/>
            <a:ext cx="1628640" cy="459720"/>
          </a:xfrm>
          <a:prstGeom prst="rect">
            <a:avLst/>
          </a:prstGeom>
          <a:solidFill>
            <a:srgbClr val="f73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omplej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14240" y="0"/>
            <a:ext cx="7772400" cy="5716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64a2"/>
                </a:solidFill>
                <a:latin typeface="Calibri"/>
              </a:rPr>
              <a:t>VITAMINAS HIDROSOLUBLES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9 Rectángulo"/>
          <p:cNvSpPr/>
          <p:nvPr/>
        </p:nvSpPr>
        <p:spPr>
          <a:xfrm>
            <a:off x="5724000" y="4286160"/>
            <a:ext cx="258552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O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(Co-Enz reacc. biosí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376200" y="1643040"/>
            <a:ext cx="1748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Ácido Ascórb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(Vitamina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1 Rectángulo"/>
          <p:cNvSpPr/>
          <p:nvPr/>
        </p:nvSpPr>
        <p:spPr>
          <a:xfrm>
            <a:off x="3222720" y="1714680"/>
            <a:ext cx="259020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Liberadoras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(Co-Enz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 Rectángulo"/>
          <p:cNvSpPr/>
          <p:nvPr/>
        </p:nvSpPr>
        <p:spPr>
          <a:xfrm>
            <a:off x="5715000" y="5308560"/>
            <a:ext cx="2286000" cy="177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Piridoxina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Piridox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Piridox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4 Rectángulo"/>
          <p:cNvSpPr/>
          <p:nvPr/>
        </p:nvSpPr>
        <p:spPr>
          <a:xfrm>
            <a:off x="6429240" y="1643040"/>
            <a:ext cx="2500560" cy="1008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Hematopoyéticas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(Biosíntesis cé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sanguín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5 Rectángulo"/>
          <p:cNvSpPr/>
          <p:nvPr/>
        </p:nvSpPr>
        <p:spPr>
          <a:xfrm>
            <a:off x="2928960" y="2786040"/>
            <a:ext cx="2428920" cy="349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iamina     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Riboflavina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Niacina     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Ácido Pantoté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6 Rectángulo"/>
          <p:cNvSpPr/>
          <p:nvPr/>
        </p:nvSpPr>
        <p:spPr>
          <a:xfrm>
            <a:off x="6500880" y="3000240"/>
            <a:ext cx="2357280" cy="9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Ácido Fólico 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0 Conector recto"/>
          <p:cNvSpPr/>
          <p:nvPr/>
        </p:nvSpPr>
        <p:spPr>
          <a:xfrm flipH="1">
            <a:off x="1498680" y="128592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4 Conector recto"/>
          <p:cNvSpPr/>
          <p:nvPr/>
        </p:nvSpPr>
        <p:spPr>
          <a:xfrm flipH="1">
            <a:off x="5571720" y="1357200"/>
            <a:ext cx="1800" cy="35748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5 Conector recto"/>
          <p:cNvSpPr/>
          <p:nvPr/>
        </p:nvSpPr>
        <p:spPr>
          <a:xfrm flipH="1">
            <a:off x="7000920" y="128592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6 Conector recto"/>
          <p:cNvSpPr/>
          <p:nvPr/>
        </p:nvSpPr>
        <p:spPr>
          <a:xfrm flipH="1">
            <a:off x="4142880" y="2428920"/>
            <a:ext cx="180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7 Conector recto"/>
          <p:cNvSpPr/>
          <p:nvPr/>
        </p:nvSpPr>
        <p:spPr>
          <a:xfrm flipH="1">
            <a:off x="7570800" y="264312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8 Conector recto"/>
          <p:cNvSpPr/>
          <p:nvPr/>
        </p:nvSpPr>
        <p:spPr>
          <a:xfrm flipH="1">
            <a:off x="6356520" y="500076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9 Conector recto"/>
          <p:cNvSpPr/>
          <p:nvPr/>
        </p:nvSpPr>
        <p:spPr>
          <a:xfrm flipH="1">
            <a:off x="6286680" y="1357200"/>
            <a:ext cx="1440" cy="292896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2 Conector recto"/>
          <p:cNvSpPr/>
          <p:nvPr/>
        </p:nvSpPr>
        <p:spPr>
          <a:xfrm flipH="1">
            <a:off x="2142720" y="500040"/>
            <a:ext cx="180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3 Conector recto"/>
          <p:cNvSpPr/>
          <p:nvPr/>
        </p:nvSpPr>
        <p:spPr>
          <a:xfrm flipH="1">
            <a:off x="6286680" y="50004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1280" y="1341360"/>
            <a:ext cx="9144000" cy="47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Vitamin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oenzim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Tiamin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Tiamina Pirofosfato Descarboxilación oxid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Riboflavina  FAD, FMN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        Oxido-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Niacin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NAD, NADP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Oxido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Ac Pantoténic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oenzima A         Transferencia de grupos a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6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iridoxal      Piridoxal fosfato     Transan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iotina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biotinil                    Carbox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ido fólico      Tetra hidrofolato    Transferencia de unidades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de un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ianocobalamina   Met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71680" y="-71280"/>
            <a:ext cx="835812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br>
              <a:rPr sz="2800"/>
            </a:br>
            <a:r>
              <a:rPr b="1" lang="es-AR" sz="4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Sinónimos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ff0066"/>
                </a:solidFill>
                <a:latin typeface="Comic Sans MS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79280" y="3284640"/>
            <a:ext cx="2448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SimSun"/>
              </a:rPr>
              <a:t>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1280" y="5072040"/>
            <a:ext cx="342900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SimSun"/>
              </a:rPr>
              <a:t>Pirofosfato de Ti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SimSun"/>
              </a:rPr>
              <a:t>(TP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SimSun"/>
              </a:rPr>
              <a:t>Forma 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47640" y="386064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SimSu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47640" y="4437000"/>
            <a:ext cx="122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SimSun"/>
              </a:rPr>
              <a:t>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1187280" y="3789360"/>
            <a:ext cx="0" cy="1150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1189080" y="407664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TIAMINA ó VIT B</a:t>
            </a:r>
            <a:r>
              <a:rPr b="1" lang="es-AR" sz="3600" spc="-1" strike="noStrike" baseline="-25000">
                <a:solidFill>
                  <a:srgbClr val="e46c0a"/>
                </a:solidFill>
                <a:latin typeface="Calibri"/>
              </a:rPr>
              <a:t>1</a:t>
            </a: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s-AR" sz="3200" spc="-1" strike="noStrike">
                <a:solidFill>
                  <a:srgbClr val="e46c0a"/>
                </a:solidFill>
                <a:latin typeface="Comic Sans MS"/>
              </a:rPr>
              <a:t>Funciones</a:t>
            </a: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0 CuadroTexto"/>
          <p:cNvSpPr/>
          <p:nvPr/>
        </p:nvSpPr>
        <p:spPr>
          <a:xfrm>
            <a:off x="3782880" y="3500280"/>
            <a:ext cx="461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Calibri"/>
              </a:rPr>
              <a:t>TPP - Cofactor de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79646"/>
                </a:solidFill>
                <a:latin typeface="Calibri"/>
              </a:rPr>
              <a:t>Descarboxilación oxidativ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79646"/>
                </a:solidFill>
                <a:latin typeface="Calibri"/>
              </a:rPr>
              <a:t>	</a:t>
            </a:r>
            <a:r>
              <a:rPr b="1" lang="es-ES_tradnl" sz="2400" spc="-1" strike="noStrike">
                <a:solidFill>
                  <a:srgbClr val="f79646"/>
                </a:solidFill>
                <a:latin typeface="Calibri"/>
              </a:rPr>
              <a:t>alfa-ceto 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79646"/>
                </a:solidFill>
                <a:latin typeface="Calibri"/>
              </a:rPr>
              <a:t>Transferencia de grupo cetol (2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"/>
          <p:cNvPicPr/>
          <p:nvPr/>
        </p:nvPicPr>
        <p:blipFill>
          <a:blip r:embed="rId1"/>
          <a:stretch/>
        </p:blipFill>
        <p:spPr>
          <a:xfrm>
            <a:off x="184320" y="1571760"/>
            <a:ext cx="4387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57120" y="-285840"/>
            <a:ext cx="5548320" cy="7143840"/>
          </a:xfrm>
          <a:prstGeom prst="rect">
            <a:avLst/>
          </a:prstGeom>
          <a:ln w="0">
            <a:noFill/>
          </a:ln>
        </p:spPr>
      </p:pic>
      <p:sp>
        <p:nvSpPr>
          <p:cNvPr id="114" name="2 CuadroTexto"/>
          <p:cNvSpPr/>
          <p:nvPr/>
        </p:nvSpPr>
        <p:spPr>
          <a:xfrm>
            <a:off x="5381280" y="428760"/>
            <a:ext cx="343296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Vitamina B1 –TI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omic Sans MS"/>
              </a:rPr>
              <a:t>Mecanism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 CuadroTexto"/>
          <p:cNvSpPr/>
          <p:nvPr/>
        </p:nvSpPr>
        <p:spPr>
          <a:xfrm>
            <a:off x="4503960" y="2279520"/>
            <a:ext cx="429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alibri"/>
              </a:rPr>
              <a:t>Cofactor de 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79646"/>
                </a:solidFill>
                <a:latin typeface="Calibri"/>
              </a:rPr>
              <a:t>Descarboxilación oxidativ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79646"/>
                </a:solidFill>
                <a:latin typeface="Calibri"/>
              </a:rPr>
              <a:t>alfa-ceto 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Piruvato 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alfa-Cetoglutarato 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(C de Kr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79646"/>
                </a:solidFill>
                <a:latin typeface="Calibri"/>
              </a:rPr>
              <a:t>Transferencia de grupo cetol (2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Transcetolasa (Vía de las Pentosas-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285840" y="2214720"/>
            <a:ext cx="5713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tángulo redondeado"/>
          <p:cNvSpPr/>
          <p:nvPr/>
        </p:nvSpPr>
        <p:spPr>
          <a:xfrm>
            <a:off x="2500200" y="6000840"/>
            <a:ext cx="19288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6 Rectángulo redondeado"/>
          <p:cNvSpPr/>
          <p:nvPr/>
        </p:nvSpPr>
        <p:spPr>
          <a:xfrm>
            <a:off x="2928960" y="571680"/>
            <a:ext cx="7858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TIAMINA ó VIT B</a:t>
            </a:r>
            <a:r>
              <a:rPr b="1" lang="es-AR" sz="3600" spc="-1" strike="noStrike" baseline="-25000">
                <a:solidFill>
                  <a:srgbClr val="e46c0a"/>
                </a:solidFill>
                <a:latin typeface="Calibri"/>
              </a:rPr>
              <a:t>1</a:t>
            </a: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Fuentes – Necesidades diarias</a:t>
            </a:r>
            <a:r>
              <a:rPr b="1" lang="es-AR" sz="3600" spc="-1" strike="noStrike">
                <a:solidFill>
                  <a:srgbClr val="e46c0a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285840" y="1214280"/>
            <a:ext cx="4535280" cy="41176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ereales integrales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cubierta de semil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alab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egumbres, p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n todos los alimentos de origen animal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(Hígado y carne de cerdo, Productos lácte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8" descr="trigo"/>
          <p:cNvPicPr/>
          <p:nvPr/>
        </p:nvPicPr>
        <p:blipFill>
          <a:blip r:embed="rId1"/>
          <a:stretch/>
        </p:blipFill>
        <p:spPr>
          <a:xfrm>
            <a:off x="5429160" y="157176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carne cerdo"/>
          <p:cNvPicPr/>
          <p:nvPr/>
        </p:nvPicPr>
        <p:blipFill>
          <a:blip r:embed="rId2"/>
          <a:stretch/>
        </p:blipFill>
        <p:spPr>
          <a:xfrm>
            <a:off x="6929280" y="250020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0"/>
          <p:cNvSpPr/>
          <p:nvPr/>
        </p:nvSpPr>
        <p:spPr>
          <a:xfrm>
            <a:off x="466560" y="5572080"/>
            <a:ext cx="5248440" cy="119124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vitaminosi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disminuye la  actividad de las vías metabólicas en que participa, Beriberi, Wernicke-Korsa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5857920" y="4857840"/>
            <a:ext cx="2786040" cy="1818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Requer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nutricion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0,9-1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images"/>
          <p:cNvPicPr/>
          <p:nvPr/>
        </p:nvPicPr>
        <p:blipFill>
          <a:blip r:embed="rId3"/>
          <a:stretch/>
        </p:blipFill>
        <p:spPr>
          <a:xfrm>
            <a:off x="5643720" y="35002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38"/>
          <p:cNvGrpSpPr/>
          <p:nvPr/>
        </p:nvGrpSpPr>
        <p:grpSpPr>
          <a:xfrm>
            <a:off x="428760" y="1693800"/>
            <a:ext cx="3282840" cy="3646800"/>
            <a:chOff x="428760" y="1693800"/>
            <a:chExt cx="3282840" cy="3646800"/>
          </a:xfrm>
        </p:grpSpPr>
        <p:pic>
          <p:nvPicPr>
            <p:cNvPr id="127" name="Picture 6" descr="B2-riboflavin"/>
            <p:cNvPicPr/>
            <p:nvPr/>
          </p:nvPicPr>
          <p:blipFill>
            <a:blip r:embed="rId1"/>
            <a:stretch/>
          </p:blipFill>
          <p:spPr>
            <a:xfrm>
              <a:off x="428760" y="1693800"/>
              <a:ext cx="328284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1680" y="4759200"/>
              <a:ext cx="25318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000000"/>
                  </a:solidFill>
                  <a:latin typeface="Calibri"/>
                </a:rPr>
                <a:t>Riboflav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1"/>
          <p:cNvSpPr/>
          <p:nvPr/>
        </p:nvSpPr>
        <p:spPr>
          <a:xfrm>
            <a:off x="642960" y="5286240"/>
            <a:ext cx="287964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FAD) (F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398520" y="5911920"/>
            <a:ext cx="84596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nterviene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85840" y="71280"/>
            <a:ext cx="8643960" cy="16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66"/>
                </a:solidFill>
                <a:latin typeface="Calibri"/>
              </a:rPr>
              <a:t>RIBOFLAVINA ó VIT B</a:t>
            </a:r>
            <a:r>
              <a:rPr b="1" lang="es-AR" sz="3600" spc="-1" strike="noStrike" baseline="-25000">
                <a:solidFill>
                  <a:srgbClr val="ff0066"/>
                </a:solidFill>
                <a:latin typeface="Calibri"/>
              </a:rPr>
              <a:t>2</a:t>
            </a:r>
            <a:r>
              <a:rPr b="1" lang="es-AR" sz="36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0066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9 CuadroTexto"/>
          <p:cNvSpPr/>
          <p:nvPr/>
        </p:nvSpPr>
        <p:spPr>
          <a:xfrm>
            <a:off x="3714840" y="1571760"/>
            <a:ext cx="54291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Integrante de C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atalizan reaccion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óxido-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(Ej: Flavoprot FMN-Complejo I-Transp. Elect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(Ej: Succinato deshidrogenasa-Complejo II- Transp. Electr., C de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572600" cy="4416480"/>
          </a:xfrm>
          <a:prstGeom prst="rect">
            <a:avLst/>
          </a:prstGeom>
          <a:ln w="0">
            <a:noFill/>
          </a:ln>
        </p:spPr>
      </p:pic>
      <p:sp>
        <p:nvSpPr>
          <p:cNvPr id="134" name="5 CuadroTexto"/>
          <p:cNvSpPr/>
          <p:nvPr/>
        </p:nvSpPr>
        <p:spPr>
          <a:xfrm>
            <a:off x="1936080" y="857160"/>
            <a:ext cx="53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Flavina Adenina Dinucleótido - 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2340000" y="5270400"/>
            <a:ext cx="4392720" cy="15958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Requerimientos diario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                 Hombres: 1, 1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ujeres: 0,9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8360" y="1643040"/>
            <a:ext cx="4897440" cy="35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Hí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ueces, sem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(Se destruye por luz 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carne sana"/>
          <p:cNvPicPr/>
          <p:nvPr/>
        </p:nvPicPr>
        <p:blipFill>
          <a:blip r:embed="rId1"/>
          <a:stretch/>
        </p:blipFill>
        <p:spPr>
          <a:xfrm>
            <a:off x="5580000" y="2133720"/>
            <a:ext cx="3240000" cy="2441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images"/>
          <p:cNvPicPr/>
          <p:nvPr/>
        </p:nvPicPr>
        <p:blipFill>
          <a:blip r:embed="rId2"/>
          <a:stretch/>
        </p:blipFill>
        <p:spPr>
          <a:xfrm>
            <a:off x="2771640" y="1903320"/>
            <a:ext cx="2030400" cy="203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285840" y="71280"/>
            <a:ext cx="8643960" cy="157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73bab"/>
                </a:solidFill>
                <a:latin typeface="Calibri"/>
              </a:rPr>
              <a:t>RIBOFLAVINA ó VIT B</a:t>
            </a:r>
            <a:r>
              <a:rPr b="1" lang="es-AR" sz="3600" spc="-1" strike="noStrike" baseline="-25000">
                <a:solidFill>
                  <a:srgbClr val="f73bab"/>
                </a:solidFill>
                <a:latin typeface="Calibri"/>
              </a:rPr>
              <a:t>2</a:t>
            </a:r>
            <a:r>
              <a:rPr b="1" lang="es-AR" sz="3600" spc="-1" strike="noStrike">
                <a:solidFill>
                  <a:srgbClr val="f73ba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Fuentes – Necesidades diarias</a:t>
            </a:r>
            <a:r>
              <a:rPr b="1" lang="es-AR" sz="3600" spc="-1" strike="noStrike">
                <a:solidFill>
                  <a:srgbClr val="e46c0a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5:32:30Z</dcterms:created>
  <dc:creator>ali y facu</dc:creator>
  <dc:description/>
  <dc:language>en-US</dc:language>
  <cp:lastModifiedBy>ali y facu</cp:lastModifiedBy>
  <dcterms:modified xsi:type="dcterms:W3CDTF">2016-09-15T15:46:50Z</dcterms:modified>
  <cp:revision>2</cp:revision>
  <dc:subject/>
  <dc:title>Diapositiva 1</dc:title>
</cp:coreProperties>
</file>